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CARBRAKE.WAV" ContentType="audio/x-wav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834-E2E3-4600-8D71-A073403E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C56-0E96-4F78-BC02-9A514B57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929-090E-4A58-A5C9-12C54B10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B76-6018-4907-89F9-CBE4C2C1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AECA-76FA-4707-9770-41EA97AE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59C1-F095-4B00-9657-9DB6D1F1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CF3B-919C-42E3-8B74-CE498E4B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33C1-ABCF-4FCC-8A33-A7054473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76C5-3CDC-4E20-8EC8-77C8BDCD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BB3D-0D2B-422D-9A9C-0BD09997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13BA-5134-4F52-A86A-4BE3128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685-197C-440D-AE47-B331070F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F8FB-58F2-4E1B-94A5-7B4215B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A1B4-A6BA-43E0-8BD9-5652553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5822-25B0-4224-91E8-16D70B9C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3CE2-CB5F-4396-97DD-AB3F782A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0BFD-E992-4E95-B950-F3137A8F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59EA-46DB-4265-8ADD-17365407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0E42-CA64-4751-948B-191374D1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824E-D17A-452D-8813-FC3D8BBB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782E-BD43-4C31-9F7F-71DD9847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3D69-0B07-4910-B903-77365E84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904-5FDF-471D-B53D-0D9FD006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FAE8-09A4-4178-A735-242E0D78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25E2-1BC8-40B4-B7F3-473D6A2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0BED-F2E2-4408-A381-109CD4E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B780-57EF-47E5-8FEC-B9E29DC7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CFA6-DF2B-465A-B0FF-34A36935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7449-E20D-4C7A-BCC8-18879695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DE22-0FE9-4841-9302-C3C16CEC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A46-8652-4FCC-ABD9-9987C79D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08F-3F3B-4EB1-BC3D-0A03B84A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C48-1D8B-4AB5-AC31-2E5FC1D8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7C6-5B80-4AE5-937C-AA20A8D5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2C2-BEBC-476C-A0FC-43C1A48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BA9-3E69-4D7A-BDB2-6998AC53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0BAD-BCCD-44DE-A21F-F7B3F986C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16A9-D839-42EF-AB60-CEEA292D0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031E-995A-4BEB-80E4-7D4C5A19A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61Gp_d7evo" TargetMode="Externa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oWK0fIyFl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psci.com/science/article/2013-03/watch-absolutely-beautiful-animated-explainer-dna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-ldPgEfAH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Mitosis and Mei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ell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0" y="4191120"/>
            <a:ext cx="2819520" cy="24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5638680" y="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40848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95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osome cond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tubles 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uclear envelope breaks 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osomes are pulled to center of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 up along “metaphase plat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4267080" y="1143000"/>
            <a:ext cx="2210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Straight Arrow Connector 8"/>
          <p:cNvCxnSpPr/>
          <p:nvPr/>
        </p:nvCxnSpPr>
        <p:spPr>
          <a:xfrm flipV="1">
            <a:off x="5181480" y="685440"/>
            <a:ext cx="76680" cy="381600"/>
          </a:xfrm>
          <a:prstGeom prst="straightConnector1">
            <a:avLst/>
          </a:prstGeom>
          <a:ln w="4140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157" name="Straight Arrow Connector 10"/>
          <p:cNvCxnSpPr/>
          <p:nvPr/>
        </p:nvCxnSpPr>
        <p:spPr>
          <a:xfrm flipV="1">
            <a:off x="4647960" y="3504600"/>
            <a:ext cx="153000" cy="1067400"/>
          </a:xfrm>
          <a:prstGeom prst="straightConnector1">
            <a:avLst/>
          </a:prstGeom>
          <a:ln w="41400">
            <a:solidFill>
              <a:srgbClr val="0a6dc6"/>
            </a:solidFill>
            <a:miter/>
            <a:tailEnd len="med" type="arrow" w="med"/>
          </a:ln>
        </p:spPr>
      </p:cxn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581280" y="114300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romeres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indle fibers pull one set of chromosomes to each p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ise alignment is critical to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62" name="Straight Arrow Connector 3"/>
          <p:cNvCxnSpPr/>
          <p:nvPr/>
        </p:nvCxnSpPr>
        <p:spPr>
          <a:xfrm flipV="1">
            <a:off x="4114440" y="4114080"/>
            <a:ext cx="153000" cy="762840"/>
          </a:xfrm>
          <a:prstGeom prst="straightConnector1">
            <a:avLst/>
          </a:prstGeom>
          <a:ln w="60480">
            <a:solidFill>
              <a:srgbClr val="0a6dc6"/>
            </a:solidFill>
            <a:miter/>
            <a:tailEnd len="med" type="triangle" w="med"/>
          </a:ln>
        </p:spPr>
      </p:cxn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Nuclear envelope form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around chromosome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hromosomes uncoi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nimals - pinching of plasma membran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lants- elongates and the cell plate forms( future cellwall and cell membran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029" descr=""/>
          <p:cNvPicPr/>
          <p:nvPr/>
        </p:nvPicPr>
        <p:blipFill>
          <a:blip r:embed="rId2"/>
          <a:stretch/>
        </p:blipFill>
        <p:spPr>
          <a:xfrm>
            <a:off x="6337440" y="1066680"/>
            <a:ext cx="2577960" cy="3048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telophase.jpg"/>
          <p:cNvPicPr/>
          <p:nvPr/>
        </p:nvPicPr>
        <p:blipFill>
          <a:blip r:embed="rId1"/>
          <a:stretch/>
        </p:blipFill>
        <p:spPr>
          <a:xfrm>
            <a:off x="504720" y="498600"/>
            <a:ext cx="8410680" cy="56736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20574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Straight Arrow Connector 7"/>
          <p:cNvCxnSpPr>
            <a:stCxn id="168" idx="0"/>
          </p:cNvCxnSpPr>
          <p:nvPr/>
        </p:nvCxnSpPr>
        <p:spPr>
          <a:xfrm flipV="1">
            <a:off x="3352320" y="3809160"/>
            <a:ext cx="686520" cy="305640"/>
          </a:xfrm>
          <a:prstGeom prst="straightConnector1">
            <a:avLst/>
          </a:prstGeom>
          <a:ln w="63360">
            <a:solidFill>
              <a:srgbClr val="0a6dc6"/>
            </a:solidFill>
            <a:miter/>
            <a:tailEnd len="med" type="triangle" w="med"/>
          </a:ln>
        </p:spPr>
      </p:cxn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685800" y="8380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1"/>
              </a:rPr>
              <a:t>Mitosis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935640" y="198108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ove link is an cell going through mito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371600" y="26668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Times New Roman"/>
              </a:rPr>
              <a:t>Mei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600200" y="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Meios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57200" y="914400"/>
            <a:ext cx="8229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ivision of the nucleus that reduces chromosome number by ha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ortant in 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volves combining the genetic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ation of one parent with that o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other parent to produce a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tically unique individ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Times New Roman"/>
                <a:hlinkClick r:id="rId1"/>
              </a:rPr>
              <a:t>https://www.youtube.com/watch?v=toWK0fIyF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000000"/>
                </a:solidFill>
                <a:latin typeface="Calibri"/>
              </a:rPr>
              <a:t>Why Do Cells Divide?</a:t>
            </a:r>
            <a:br>
              <a:rPr sz="4900"/>
            </a:br>
            <a:br>
              <a:rPr sz="49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growth, repair, and rep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590920" y="15238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Diploid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- two sets of chromosomes (2n), in humans 23 pairs or 46 tota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Haploid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- one set of chromosomes (n) - gametes or sex cells, in humans 23 chromosome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ploid vs Diplo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Content Placeholder 3" descr="haploid.png"/>
          <p:cNvPicPr/>
          <p:nvPr/>
        </p:nvPicPr>
        <p:blipFill>
          <a:blip r:embed="rId1"/>
          <a:stretch/>
        </p:blipFill>
        <p:spPr>
          <a:xfrm>
            <a:off x="1020600" y="1338120"/>
            <a:ext cx="6980400" cy="5139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hromosome Pai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mologous p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ch chromosome in pair are identical to the other ( carry genes for same trai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ly one pair differs - sex chromosomes X or 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hases of Mei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iploid cell replicates its chromos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stages of me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iosis I and Meiosis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ly 1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Calibri"/>
              </a:rPr>
              <a:t>Meiosis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ophase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s cond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logous chromosomes pair w/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air contains four sister chromatids – tetr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ing over of non-sis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atids (Increases gen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etaphase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logous chromosomes move to center of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962520" cy="3504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naphase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logous chromosomes pulled to opposite p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elophase 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ughter nuclei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se are haploid (1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Calibri"/>
              </a:rPr>
              <a:t>Mit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sms grow by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dditi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ulticellular organism some of these cells perform functions different from other cell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eiosis I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ughter cells undergo a second division; much like 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ophase I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indle fibers form a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495680" cy="3471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ster chromatids move to the ce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5334120" cy="4648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naphase I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romeres spl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 chromosomes are pulled to p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4648320" y="2995560"/>
            <a:ext cx="3809880" cy="2086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elophase II &amp; Cytokine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haploid daughter cells results from one original diploid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eview Mitosis &amp; Mei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h are forms of nuclear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h involve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h involve disappearance of the nucleus, and nucleolus, nuclear membr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h involve formation of spindle fi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DIFFERENC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libri"/>
              </a:rPr>
              <a:t>Meiosis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produces daughter cells that have 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1/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the number of chromosomes as the parent.  Go from 2n to 1n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libri"/>
              </a:rPr>
              <a:t>Daughter cells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produced by meiosis are 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genetically 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identical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to one another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4300" spc="-1" strike="noStrike">
                <a:solidFill>
                  <a:srgbClr val="000000"/>
                </a:solidFill>
                <a:latin typeface="Calibri"/>
              </a:rPr>
              <a:t>meiosis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cell division takes place 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twice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ut replication occurs only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once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Value of Variation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Variation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- differences between members of a population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Meiosis results in </a:t>
            </a:r>
            <a:r>
              <a:rPr b="0" i="1" lang="en-US" sz="4100" spc="-1" strike="noStrike">
                <a:solidFill>
                  <a:srgbClr val="000000"/>
                </a:solidFill>
                <a:latin typeface="Calibri"/>
              </a:rPr>
              <a:t>random separation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of chromosomes in gametes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i="1" lang="en-US" sz="4100" spc="-1" strike="noStrike">
                <a:solidFill>
                  <a:srgbClr val="000000"/>
                </a:solidFill>
                <a:latin typeface="Calibri"/>
              </a:rPr>
              <a:t>diverse populations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that over time can be stronger for survival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&amp; Chromos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 – structure that is made of DNA and some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Fig-5-4-Chromosome-DNA-Replication.jpg"/>
          <p:cNvPicPr/>
          <p:nvPr/>
        </p:nvPicPr>
        <p:blipFill>
          <a:blip r:embed="rId1"/>
          <a:stretch/>
        </p:blipFill>
        <p:spPr>
          <a:xfrm>
            <a:off x="1371600" y="2743200"/>
            <a:ext cx="6572160" cy="3533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&amp; Chromos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– Molecule that contains the genetic information that determines the traits of all living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://www.popsci.com/science/article/2013-03/watch-absolutely-beautiful-animated-explainer-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DNA.png"/>
          <p:cNvPicPr/>
          <p:nvPr/>
        </p:nvPicPr>
        <p:blipFill>
          <a:blip r:embed="rId2"/>
          <a:stretch/>
        </p:blipFill>
        <p:spPr>
          <a:xfrm>
            <a:off x="6708600" y="1828800"/>
            <a:ext cx="2435400" cy="3733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Division vs. Nuclear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tokinesis:  The actual division of the cell into two new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osis:  The division of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s://www.youtube.com/watch?v=f-ldPgEfAH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Cells Divid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ell cyc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 sequence of phases in the life cycle of the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790960" cy="3429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tting ready to spl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ell cycle has two par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owth and prepa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 make a copy of themselves – a process called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tosis (nuclear divis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ytokinesis (cytoplasm divis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6:55:31Z</dcterms:created>
  <dc:creator>cfisd</dc:creator>
  <dc:description/>
  <dc:language>en-US</dc:language>
  <cp:lastModifiedBy>Karen Edmonds</cp:lastModifiedBy>
  <dcterms:modified xsi:type="dcterms:W3CDTF">2017-03-14T14:38:02Z</dcterms:modified>
  <cp:revision>49</cp:revision>
  <dc:subject/>
  <dc:title>Mitosis and Meiosis</dc:title>
</cp:coreProperties>
</file>